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259A-D65A-49E4-9FBA-0821CB337B3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下的目录为线索，介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重要目录；同时介绍一些重要的培训文件和命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D05-F1B4-479B-AB7C-30FB316B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519-7A81-462E-8DAE-8009D36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F7F-2283-4822-90B9-00FFF2DA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798-7776-460C-8AF6-3079957F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FEC-4979-472B-8D66-A59330B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01D-0E2B-42BF-AA6D-0D124EC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5C4-20F4-4B5E-A8C6-A7AD983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779-29BA-47DC-91EC-04CA24CA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93C-DDEC-4D74-8059-11314224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893-52C1-4822-9B76-B382948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CB0-4461-4A30-B338-CE3AD7F4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794-28B3-4C20-8138-E8D68BE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qq" descr=""/>
          <p:cNvPicPr/>
          <p:nvPr/>
        </p:nvPicPr>
        <p:blipFill>
          <a:blip r:embed="rId2"/>
          <a:stretch/>
        </p:blipFill>
        <p:spPr>
          <a:xfrm>
            <a:off x="5791320" y="6031080"/>
            <a:ext cx="2438280" cy="750600"/>
          </a:xfrm>
          <a:prstGeom prst="rect">
            <a:avLst/>
          </a:prstGeom>
          <a:ln w="0">
            <a:noFill/>
          </a:ln>
        </p:spPr>
      </p:pic>
      <p:pic>
        <p:nvPicPr>
          <p:cNvPr id="1" name="ww" descr=""/>
          <p:cNvPicPr/>
          <p:nvPr/>
        </p:nvPicPr>
        <p:blipFill>
          <a:blip r:embed="rId3"/>
          <a:stretch/>
        </p:blipFill>
        <p:spPr>
          <a:xfrm>
            <a:off x="55440" y="76320"/>
            <a:ext cx="1392480" cy="167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1CE5-D8E1-4F4D-B0F8-5B7E24C83E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75248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enguin%20R%20small" descr=""/>
          <p:cNvPicPr/>
          <p:nvPr/>
        </p:nvPicPr>
        <p:blipFill>
          <a:blip r:embed="rId4"/>
          <a:stretch/>
        </p:blipFill>
        <p:spPr>
          <a:xfrm>
            <a:off x="8123400" y="5791320"/>
            <a:ext cx="76644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xx" descr=""/>
          <p:cNvPicPr/>
          <p:nvPr/>
        </p:nvPicPr>
        <p:blipFill>
          <a:blip r:embed="rId2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" name="penguin%20R%20small" descr=""/>
          <p:cNvPicPr/>
          <p:nvPr/>
        </p:nvPicPr>
        <p:blipFill>
          <a:blip r:embed="rId3"/>
          <a:stretch/>
        </p:blipFill>
        <p:spPr>
          <a:xfrm>
            <a:off x="7620120" y="5168880"/>
            <a:ext cx="1269720" cy="15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红旗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应用技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43040" y="39621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g Dept. Huai Jin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i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编辑器的简单使用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插入文字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退回命令模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存盘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强制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强制存盘退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wq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i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其他常用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删除一行文字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拷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行文字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粘贴拷贝的内容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文件中向下搜索文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  /a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标移至文本第一行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标移至文本末行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$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或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退出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中的目录结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放命令的目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  /sbin  /usr/bin   /usr/sbin  /usr/local/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boo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核及其他系统启动所需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rd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时挂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rd.im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影像文件以及载入所需设备模块的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大的应用程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mp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临时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中的目录结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+foun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修复过程中恢复的文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超级用户的主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v – device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设备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—bloc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块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—charact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硬件设备对应文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建新设备文件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a33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knod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设备文件     设备类型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mino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knod /dev/hda33   b           3        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光驱设备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cd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软驱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串口设备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cua0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disk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命令介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isk /dev/h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帮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列出当前分区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删除分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建新分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列出支持的文件系统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存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存储直接退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配置文件所在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引导程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启动模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init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系统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fs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bashr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rc.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LO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的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修改后运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l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out=50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等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=linu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默认启动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=/dev/hda (lil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安装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=linu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标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=/dev/hda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label=xxx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区的系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/inittab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停止系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0   halt    poweroff   shut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重启系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b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界面启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形界面启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用户模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sing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/fstab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hda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挂装的分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用文件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参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备份的参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引导时检查文件系统的顺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添加新的分区或者新的硬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盘分区技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hd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S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sd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主分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a1,2,3,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逻辑分区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a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开始计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hom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户的默认主目录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/user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add username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创建新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word username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添加密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pass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sha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sk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b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库文件的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所用的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/modules/2.4.20-8/kernel/drivers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驱动模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r/lib/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应用程序使用的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5880" y="201780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驱的装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/mnt/cd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ount –t iso9660 /dev/cdrom /mnt/cd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–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类型 设备文件 挂装目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卸载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ount /mnt/cd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c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软驱的使用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–t fstype /dev/fd0 /mnt/flop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的挂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c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内存映射的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info CU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断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inf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/proc/pci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 /etc/sysconfig/hwcon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dz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 version 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版本信息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e -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/usr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用户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r/doc  /usr/share/do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帮助文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命令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usr/src/linux-2.4.20-8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ar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/f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sp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i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 /var/log/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as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了解所用硬盘的信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挂装分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disk -l /dev/hda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状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 -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的使用情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 -s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占用空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e -a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版本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件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显卡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 in Following Slid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卡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后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鼠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其他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显卡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图形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conf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configu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S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X11/XF86Config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卡配置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图形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ne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sysconfig/network-scripts/ifcfg-eth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ADDR=”192.168.0.11”  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MASK=”255.255.255.0”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掩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sysconfig/net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NAME=“www.redflag.co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=“192.168.0.1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s. Windows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分区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4280" y="1828800"/>
            <a:ext cx="2895840" cy="4267080"/>
            <a:chOff x="4724280" y="1828800"/>
            <a:chExt cx="2895840" cy="4267080"/>
          </a:xfrm>
        </p:grpSpPr>
        <p:sp>
          <p:nvSpPr>
            <p:cNvPr id="98" name=""/>
            <p:cNvSpPr/>
            <p:nvPr/>
          </p:nvSpPr>
          <p:spPr>
            <a:xfrm>
              <a:off x="4724280" y="2590920"/>
              <a:ext cx="2210040" cy="3504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1828800"/>
              <a:ext cx="2210040" cy="7621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1 (C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280" y="2590920"/>
              <a:ext cx="221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5 (D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4280" y="3352680"/>
              <a:ext cx="221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6 (E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4114800"/>
              <a:ext cx="221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7 (F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2590920"/>
              <a:ext cx="533520" cy="350496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91080 h 3504960"/>
                <a:gd name="textAreaBottom" fmla="*/ 341388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941600" y="40384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扩展分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8000" y="1828800"/>
            <a:ext cx="3660480" cy="4495680"/>
            <a:chOff x="378000" y="1828800"/>
            <a:chExt cx="3660480" cy="4495680"/>
          </a:xfrm>
        </p:grpSpPr>
        <p:sp>
          <p:nvSpPr>
            <p:cNvPr id="106" name=""/>
            <p:cNvSpPr/>
            <p:nvPr/>
          </p:nvSpPr>
          <p:spPr>
            <a:xfrm>
              <a:off x="1905120" y="1828800"/>
              <a:ext cx="2133360" cy="7621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590920"/>
              <a:ext cx="21333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3352680"/>
              <a:ext cx="2133360" cy="762120"/>
            </a:xfrm>
            <a:prstGeom prst="rect">
              <a:avLst/>
            </a:prstGeom>
            <a:solidFill>
              <a:srgbClr val="acea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114800"/>
              <a:ext cx="2133360" cy="22096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5120" y="41148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48006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5120" y="54864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4191120"/>
              <a:ext cx="380880" cy="21333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000" y="4952880"/>
              <a:ext cx="901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扩展分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190512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274320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350532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772400" y="1828800"/>
            <a:ext cx="91440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8333"/>
              <a:gd name="adj5" fmla="val 86365"/>
              <a:gd name="adj6" fmla="val -9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主分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络主要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conf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-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map IP_ADDR -p ‘1-6553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涉及硬件的配置文件和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modules.conf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卡、声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驱动模块的相关命令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m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m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m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的比较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本文件的区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文件的区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的查找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径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/etc -name pass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iz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按文件大小查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yp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按文件类型查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-u &amp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p 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找模式 文件名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目录的权限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-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mod  75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保护（红旗工具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1" descr=""/>
          <p:cNvPicPr/>
          <p:nvPr/>
        </p:nvPicPr>
        <p:blipFill>
          <a:blip r:embed="rId1"/>
          <a:stretch/>
        </p:blipFill>
        <p:spPr>
          <a:xfrm>
            <a:off x="6353280" y="2017800"/>
            <a:ext cx="22032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改变文件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目录属主、属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变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属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变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属组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g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重定向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7720" y="2017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出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 &gt; filelis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ho 1 &gt; /proc/sys/net/ipv4/icmp_echo_ignore_a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 /proc/sys/net/ipv4/icmp_echo_ignore_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错误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出错误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amp;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链接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符号链接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软链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ic Lin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n -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源文件 目标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链接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Lin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源文件 目标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 -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进程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 au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 –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 P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 -9 P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all mozilla-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+ES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弹出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卫士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系统检视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m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系统中应用软件分发格式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打包工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制作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m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Ha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公司提供的软件包封装格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i386.rp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pk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i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软件包封装格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i386.d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安装前的准备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原有数据备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重新分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QMagic, F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定启动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种安装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光盘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盘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pm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ivh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安装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Uvh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升级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e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删除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i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名称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列出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f `whic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`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显示命令所在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名称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中的文件列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rpmfin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ile.tar.gz (file.tgz)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zxvf file.tar.g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./config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m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make install;  make cl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备份格式介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cvf home.tar /h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czvf home.tar.gz /h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zip2 filena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name.bz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nzip filename.bz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z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一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LO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的恢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4520" y="2017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启动软盘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kbootdisk –device /dev/fd0 kernel-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安装光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恢复工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手工恢复 （见用户手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5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掌握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嵌套的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盘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，放置在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 if=/dev/cdrom of=/mnt/ser4.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启动软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 if=/mnt/cdrom/images/boothd.img of=/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rite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三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络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将安装盘内容拷贝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启动软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 if=/mnt/cdrom/images/bootnet.img of=/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rite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四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忘记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oot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密码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单用户模式登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添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word=12345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光盘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驱设置成启动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步骤（演示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区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交换分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ap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倍内存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根目录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同目录安装到不同分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t  /usr  /v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安装引导程序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LO=LInux Lo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UB = Grand Unified Bootlo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=Main Boot Record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引导记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登录系统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n: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用户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密码不回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提示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#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应超级用户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应普通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x -- :1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启动第二个图形界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字界面下的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大操作技巧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历史记录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(/etc/prof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动补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别名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ias (/etc/bash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控制台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桌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鼠标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Y PAS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字操作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控制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+Alt+Fn (n=1-6)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控制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文字控制台间切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切换回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第二个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运行命令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2) rxv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淮晋阳</dc:creator>
  <dc:description>应用于红旗Linux技术类培训的基础阶段</dc:description>
  <dc:language>en-US</dc:language>
  <cp:lastModifiedBy>Huai Jinyang</cp:lastModifiedBy>
  <dcterms:modified xsi:type="dcterms:W3CDTF">2003-11-03T05:06:51Z</dcterms:modified>
  <cp:revision>62</cp:revision>
  <dc:subject>Linux应用技术</dc:subject>
  <dc:title>Linux基本应用培训</dc:title>
</cp:coreProperties>
</file>