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0397-E05E-4007-B199-9DF043F17211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将以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ux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下的目录为线索，介绍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ux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中的重要目录；同时介绍一些重要的培训文件和命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944D-BC73-4B7E-A88D-C49A2F87B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D3B8-6F8E-4457-BA86-1D5A82A0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421A-E744-432F-81B9-1A0264D07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F5DA-F51C-4676-9C65-BDC7A8531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42640" y="3805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309F-CDF8-43AF-8BF4-2C4BE00B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87ED-6712-44F9-AB72-3D09A793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05EF-FA7F-4264-AAF3-1DD619B7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F417-2939-4106-895E-CE114ABF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3805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F910-A1F6-41E6-9E61-089EDF64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BBC3-BFE4-4C9A-8CEA-EFFCF09C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D291-F0A5-4A7A-88D3-2512FD2B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3848-04D5-411B-B9A8-7DC5BCF2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qq" descr=""/>
          <p:cNvPicPr/>
          <p:nvPr/>
        </p:nvPicPr>
        <p:blipFill>
          <a:blip r:embed="rId2"/>
          <a:stretch/>
        </p:blipFill>
        <p:spPr>
          <a:xfrm>
            <a:off x="5791320" y="6031080"/>
            <a:ext cx="2438280" cy="750600"/>
          </a:xfrm>
          <a:prstGeom prst="rect">
            <a:avLst/>
          </a:prstGeom>
          <a:ln w="0">
            <a:noFill/>
          </a:ln>
        </p:spPr>
      </p:pic>
      <p:pic>
        <p:nvPicPr>
          <p:cNvPr id="1" name="ww" descr=""/>
          <p:cNvPicPr/>
          <p:nvPr/>
        </p:nvPicPr>
        <p:blipFill>
          <a:blip r:embed="rId3"/>
          <a:stretch/>
        </p:blipFill>
        <p:spPr>
          <a:xfrm>
            <a:off x="55440" y="76320"/>
            <a:ext cx="1392480" cy="1676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7DA6-7935-4E88-A6AD-F2CE11E0B71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43000" y="1752480"/>
            <a:ext cx="6781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enguin%20R%20small" descr=""/>
          <p:cNvPicPr/>
          <p:nvPr/>
        </p:nvPicPr>
        <p:blipFill>
          <a:blip r:embed="rId4"/>
          <a:stretch/>
        </p:blipFill>
        <p:spPr>
          <a:xfrm>
            <a:off x="8123400" y="5791320"/>
            <a:ext cx="766440" cy="92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xx" descr=""/>
          <p:cNvPicPr/>
          <p:nvPr/>
        </p:nvPicPr>
        <p:blipFill>
          <a:blip r:embed="rId2"/>
          <a:stretch/>
        </p:blipFill>
        <p:spPr>
          <a:xfrm>
            <a:off x="0" y="0"/>
            <a:ext cx="45021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7" name="penguin%20R%20small" descr=""/>
          <p:cNvPicPr/>
          <p:nvPr/>
        </p:nvPicPr>
        <p:blipFill>
          <a:blip r:embed="rId3"/>
          <a:stretch/>
        </p:blipFill>
        <p:spPr>
          <a:xfrm>
            <a:off x="7620120" y="5168880"/>
            <a:ext cx="1269720" cy="1536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红旗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Linux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应用技术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343040" y="3962160"/>
            <a:ext cx="4267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g Dept. Huai Jin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vi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编辑器的简单使用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插入文字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键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退回命令模式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存盘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不存盘退出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存盘退出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q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强制退出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强制存盘退出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wq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vi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其他常用命令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删除一行文字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拷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行文字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n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粘贴拷贝的内容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在文件中向下搜索文本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c  /ab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光标移至文本第一行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: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光标移至文本末行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:$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或者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存盘退出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Linux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中的目录结构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存放命令的目录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  /sbin  /usr/bin   /usr/sbin  /usr/local/b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/boot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内核及其他系统启动所需文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rd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启动时挂载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rd.img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影像文件以及载入所需设备模块的目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t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安装大的应用程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mp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临时文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Linux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中的目录结构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+found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系统修复过程中恢复的文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ot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超级用户的主目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/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dev – device 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设备目录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—block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块设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—character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字符设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ux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的硬件设备对应文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创建新设备文件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a33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knod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设备文件     设备类型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jor mino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knod /dev/hda33   b           3        3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光驱设备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/cd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软驱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/fd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串口设备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/cua0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fdisk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命令介绍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isk /dev/h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帮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列出当前分区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删除分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创建新分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列出支持的文件系统类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存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不存储直接退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/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etc 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配置文件所在目录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启动引导程序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c/lilo.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控制启动模式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c/initta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文件系统配置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c/fsta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/etc/pro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/etc/bashr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/etc/rc.lo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LILO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的配置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c/lilo.conf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修改后运行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lo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生效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p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out=50 (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菜单等待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秒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ault=linux (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默认启动项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ot=/dev/hda (lilo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的安装位置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bel=linux (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菜单标示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=/dev/hdax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label=xxxx (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安装在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分区的系统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/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etc/inittab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停止系统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 0   halt    poweroff   shut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重启系统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 6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bo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文字界面启动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图形界面启动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 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单用户模式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 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 sing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/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etc/fstab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/hda1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挂装的分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系统目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所用文件系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aul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安装参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控制备份的参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系统引导时检查文件系统的顺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添加新的分区或者新的硬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硬盘分区技术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设备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: 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/hd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SI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设备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: 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/sd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最多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个主分区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da1,2,3,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逻辑分区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da5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开始计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/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home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用户的默认主目录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me/usern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add username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创建新用户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sword username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添加密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c/passw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/etc/shad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/etc/sk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/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lib 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库文件的目录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系统所用的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/modules/2.4.20-8/kernel/drivers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驱动模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r/lib/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应用程序使用的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/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mnt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15880" y="2017800"/>
            <a:ext cx="843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光驱的装载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unt /mnt/cdro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mount –t iso9660 /dev/cdrom /mnt/cdro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unt –t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文件类型 设备文件 挂装目录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卸载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ount /mnt/cdr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ct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命令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软驱的使用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unt –t fstype /dev/fd0 /mnt/flop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硬盘分区的挂装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/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proc 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内存映射的目录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puinfo CUP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信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rupts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中断信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info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内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/proc/pci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查看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ci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设备信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 /etc/sysconfig/hwcon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udz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t version Linux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版本信息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ame -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/usr 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用户目录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r/doc  /usr/share/doc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帮助文档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命令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Tahoma"/>
              </a:rPr>
              <a:t>-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/usr/src/linux-2.4.20-8/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/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var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r/ft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/var/ww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/var/sp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/var/lo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il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f /var/log/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last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命令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了解所用硬盘的信息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unt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所挂装分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disk -l /dev/hda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硬盘分区状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f -h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硬盘分区的使用情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 -sh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目录占用空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ame -a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所用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ux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版本号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硬件配置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显卡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ail in Following Slid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网卡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后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鼠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其他设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显卡配置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红旗图形工具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conf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文字界面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configura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SA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的使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配置文件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c/X11/XF86Config-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网卡配置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红旗图形工具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ne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配置文件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c/sysconfig/network-scripts/ifcfg-eth0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中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ADDR=”192.168.0.11”  IP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地址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MASK=”255.255.255.0”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掩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c/sysconfig/networ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STNAME=“www.redflag.com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TEWAY=“192.168.0.1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Linux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vs. Windows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分区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24280" y="1828800"/>
            <a:ext cx="2895840" cy="4267080"/>
            <a:chOff x="4724280" y="1828800"/>
            <a:chExt cx="2895840" cy="4267080"/>
          </a:xfrm>
        </p:grpSpPr>
        <p:sp>
          <p:nvSpPr>
            <p:cNvPr id="98" name=""/>
            <p:cNvSpPr/>
            <p:nvPr/>
          </p:nvSpPr>
          <p:spPr>
            <a:xfrm>
              <a:off x="4724280" y="2590920"/>
              <a:ext cx="2210040" cy="350496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724280" y="1828800"/>
              <a:ext cx="2210040" cy="7621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da1 (C: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24280" y="2590920"/>
              <a:ext cx="221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da5 (D: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724280" y="3352680"/>
              <a:ext cx="221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da6 (E: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24280" y="4114800"/>
              <a:ext cx="221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da7 (F: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86600" y="2590920"/>
              <a:ext cx="533520" cy="3504960"/>
            </a:xfrm>
            <a:custGeom>
              <a:avLst/>
              <a:gdLst>
                <a:gd name="textAreaLeft" fmla="*/ 0 w 533520"/>
                <a:gd name="textAreaRight" fmla="*/ 192600 w 533520"/>
                <a:gd name="textAreaTop" fmla="*/ 91080 h 3504960"/>
                <a:gd name="textAreaBottom" fmla="*/ 3413880 h 350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7941600" y="403848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da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扩展分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78000" y="1828800"/>
            <a:ext cx="3660480" cy="4495680"/>
            <a:chOff x="378000" y="1828800"/>
            <a:chExt cx="3660480" cy="4495680"/>
          </a:xfrm>
        </p:grpSpPr>
        <p:sp>
          <p:nvSpPr>
            <p:cNvPr id="106" name=""/>
            <p:cNvSpPr/>
            <p:nvPr/>
          </p:nvSpPr>
          <p:spPr>
            <a:xfrm>
              <a:off x="1905120" y="1828800"/>
              <a:ext cx="2133360" cy="7621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d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05120" y="2590920"/>
              <a:ext cx="2133360" cy="76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d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05120" y="3352680"/>
              <a:ext cx="2133360" cy="762120"/>
            </a:xfrm>
            <a:prstGeom prst="rect">
              <a:avLst/>
            </a:prstGeom>
            <a:solidFill>
              <a:srgbClr val="aceae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da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05120" y="4114800"/>
              <a:ext cx="2133360" cy="220968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05120" y="4114800"/>
              <a:ext cx="213336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da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05120" y="4800600"/>
              <a:ext cx="213336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da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905120" y="5486400"/>
              <a:ext cx="213336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da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19320" y="4191120"/>
              <a:ext cx="380880" cy="213336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55440 h 2133360"/>
                <a:gd name="textAreaBottom" fmla="*/ 207792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78000" y="4952880"/>
              <a:ext cx="9014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da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ahoma"/>
                </a:rPr>
                <a:t>扩展分区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80880" y="1905120"/>
              <a:ext cx="914400" cy="419040"/>
            </a:xfrm>
            <a:prstGeom prst="borderCallout2">
              <a:avLst>
                <a:gd name="adj1" fmla="val 18750"/>
                <a:gd name="adj2" fmla="val -8333"/>
                <a:gd name="adj3" fmla="val 27273"/>
                <a:gd name="adj4" fmla="val 108333"/>
                <a:gd name="adj5" fmla="val 63634"/>
                <a:gd name="adj6" fmla="val 16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ahoma"/>
                </a:rPr>
                <a:t>主分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0880" y="2743200"/>
              <a:ext cx="914400" cy="419040"/>
            </a:xfrm>
            <a:prstGeom prst="borderCallout2">
              <a:avLst>
                <a:gd name="adj1" fmla="val 18750"/>
                <a:gd name="adj2" fmla="val -8333"/>
                <a:gd name="adj3" fmla="val 27273"/>
                <a:gd name="adj4" fmla="val 108333"/>
                <a:gd name="adj5" fmla="val 63634"/>
                <a:gd name="adj6" fmla="val 16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ahoma"/>
                </a:rPr>
                <a:t>主分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0880" y="3505320"/>
              <a:ext cx="914400" cy="419040"/>
            </a:xfrm>
            <a:prstGeom prst="borderCallout2">
              <a:avLst>
                <a:gd name="adj1" fmla="val 18750"/>
                <a:gd name="adj2" fmla="val -8333"/>
                <a:gd name="adj3" fmla="val 27273"/>
                <a:gd name="adj4" fmla="val 108333"/>
                <a:gd name="adj5" fmla="val 63634"/>
                <a:gd name="adj6" fmla="val 16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ahoma"/>
                </a:rPr>
                <a:t>主分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7772400" y="1828800"/>
            <a:ext cx="914400" cy="419040"/>
          </a:xfrm>
          <a:prstGeom prst="borderCallout2">
            <a:avLst>
              <a:gd name="adj1" fmla="val 18750"/>
              <a:gd name="adj2" fmla="val -8333"/>
              <a:gd name="adj3" fmla="val 27273"/>
              <a:gd name="adj4" fmla="val -8333"/>
              <a:gd name="adj5" fmla="val 86365"/>
              <a:gd name="adj6" fmla="val -916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主分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网络主要命令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conf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e -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st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map IP_ADDR -p ‘1-65535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涉及硬件的配置文件和命令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c/modules.conf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网卡、声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驱动模块的相关命令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sm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mm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m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文件的比较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文本文件的区别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文件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文件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数据文件的区别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m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文件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文件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文件的查找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路径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选项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]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/etc -name passw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size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按文件大小查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type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按文件类型查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t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te -u &amp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ep [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选项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]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查找模式 文件名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文件名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...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文件目录的权限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wx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wx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w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wn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ou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w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-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-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1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0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mod  75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文件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目录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文件保护（红旗工具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1" descr=""/>
          <p:cNvPicPr/>
          <p:nvPr/>
        </p:nvPicPr>
        <p:blipFill>
          <a:blip r:embed="rId1"/>
          <a:stretch/>
        </p:blipFill>
        <p:spPr>
          <a:xfrm>
            <a:off x="6353280" y="2017800"/>
            <a:ext cx="220320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改变文件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/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目录属主、属组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改变文件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目录属主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wn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改变文件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目录属组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oup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gr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重定向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77720" y="2017800"/>
            <a:ext cx="847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输出重定向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s &gt; filelist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cho 1 &gt; /proc/sys/net/ipv4/icmp_echo_ignore_al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 /proc/sys/net/ipv4/icmp_echo_ignore_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输入重定向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错误重定向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输出错误重定向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&amp;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链接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符号链接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软链接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bolic Lin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n -s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源文件 目标文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硬链接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dLin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n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源文件 目标文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查看文件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目录的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od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s -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进程命令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s au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s –e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ill PI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ill -9 P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illall mozilla-b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trl+ESC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弹出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DE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系统卫士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红旗系统检视工具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fm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Linux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系统中应用软件分发格式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包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X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系统打包工具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制作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-1.2.3-1.tar.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pm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包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Ha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公司提供的软件包封装格式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-1.2.3-1.i386.rp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pkg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包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bian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提供的软件包封装格式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-1.2.3-1.i386.d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安装前的准备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原有数据备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重新分区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QMagic, FI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OS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设定启动方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种安装方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光盘安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硬盘安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网络安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rpm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包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m -ivh rpm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包 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安装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rpm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m -Uvh rpm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包 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升级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rpm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m -e rpm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包  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删除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rpm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m -qi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包名称 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列出信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m -qf `which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命令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` 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显示命令所在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m -ql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包名称 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包中的文件列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rpmfind.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file.tar.gz (file.tgz)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r zxvf file.tar.g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./config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ma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 make install;  make cle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备份格式介绍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r cvf home.tar /ho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r czvf home.tar.gz /ho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zip2 filenam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ilename.bz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nzip filename.bz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zip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nz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ip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z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问题一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: 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LILO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的恢复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44520" y="20178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使用启动软盘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kbootdisk –device /dev/fd0 kernel-ver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使用安装光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恢复工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手工恢复 （见用户手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15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掌握多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ux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系统嵌套的配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问题二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: 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硬盘安装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制作安装用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o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文件，放置在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tfs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分区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d if=/dev/cdrom of=/mnt/ser4.is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制作安装启动软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ux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环境下：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d if=/mnt/cdrom/images/boothd.img of=/dev/fd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S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环境下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write.ex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问题三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: 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网络安装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支持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FS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安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将安装盘内容拷贝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FS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制作安装启动软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ux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环境下：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d if=/mnt/cdrom/images/bootnet.img of=/dev/fd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S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环境下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write.ex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问题四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: 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忘记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root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密码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使用单用户模式登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c/lilo.conf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中添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sword=123456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tri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光盘安装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光驱设置成启动方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安装步骤（演示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分区处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交换分区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ap 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倍内存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根目录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/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不同目录安装到不同分区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ot  /usr  /v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安装引导程序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LO=LInux Loa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UB = Grand Unified Bootloa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BR =Main Boot Record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主引导记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登录系统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n: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输入用户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密码不回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提示符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: #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对应超级用户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对应普通用户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启动图形界面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 Wind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x -- :1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启动第二个图形界面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文字界面下的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5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大操作技巧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命令历史记录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story (/etc/profil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自动补全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命令别名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ias (/etc/bashr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虚拟控制台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/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虚拟桌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鼠标的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PY PAS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文字操作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虚拟控制台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trl+Alt+Fn (n=1-6)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文字控制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在文字控制台间切换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+F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切换回图形界面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+F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启动第二个图形界面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+F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运行命令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+F2) rxv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淮晋阳</dc:creator>
  <dc:description>应用于红旗Linux技术类培训的基础阶段</dc:description>
  <dc:language>en-US</dc:language>
  <cp:lastModifiedBy>Huai Jinyang</cp:lastModifiedBy>
  <dcterms:modified xsi:type="dcterms:W3CDTF">2003-11-03T05:06:51Z</dcterms:modified>
  <cp:revision>62</cp:revision>
  <dc:subject>Linux应用技术</dc:subject>
  <dc:title>Linux基本应用培训</dc:title>
</cp:coreProperties>
</file>